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2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9D4F-D065-4D0B-977F-C54B43E3D1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7218-B8E9-48E9-BA27-4D324EBDBC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e l'en-tête 4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qds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5C10-F5FA-4D56-A566-264FBDEA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B8BD-8973-4D4F-A79E-1C3CB95F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7720-66D3-4841-B6A5-6562EC7F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4E66-5086-4C56-BD5E-D2FB6B54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1111-544D-417A-9171-489B075D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D5410-F292-48D0-958D-4893EC59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824B1-70BF-4DCC-BDEF-5144D3F0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8B60E-3693-429F-BBAE-C122B71C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D6B8C-AE9E-401B-A78C-0E3F8CBC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94ED9-271E-45C7-A41D-A1148356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7B40-2767-4718-9618-6E9C7CE7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90735-7D62-4A05-B9ED-1A3D8F38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CD2EC-908B-4240-8842-43620600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6166A-F8C3-4869-83BF-CF4E318C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80987-63A2-4FB4-87C8-B897A06B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EEB39-9677-4F99-B427-B61FFB8E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A99F7-0F78-4C7C-9C98-F2D7961A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31EFF-2943-4B86-9451-C2BA090B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27E3F-F5DB-414A-85C0-23F73A35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CDFDB-E794-4053-BE07-8E5FE224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EF1F2-2919-4A52-BC57-1D1E5436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524B-8E56-4959-9061-AE67C191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DA05A-93EC-4B09-B8D3-1FE620C1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A673C-AAF7-4A45-904C-665E8A12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5BE5C-5CE1-4004-AFD5-11C351BA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E2B26-1BC4-4297-8EED-21FB158C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0B70C-B184-4EEE-A52C-5EE8F99E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3ADA9-D6D0-47FF-9ED0-DF78DA85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1C59F-E6BE-4061-A70E-624B9535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22EE1-183A-4B42-89A1-94C83D72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FCFBB-531D-4392-98F9-1A175758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6EAE-2BC8-43CC-82AC-A48603D2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37F3-72E0-49B5-9DE0-676B445E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1EB4-1A3E-4E6F-9EA6-80DA86B7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1E6E-8BC1-4098-AD78-660F4EB3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C6C7-4971-4412-9BFC-922656FE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28/0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owerpoint template - Patricia Munoz 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7E86-BD5D-4349-83A4-7395CC049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6"/>
          <p:cNvSpPr/>
          <p:nvPr/>
        </p:nvSpPr>
        <p:spPr>
          <a:xfrm>
            <a:off x="4857840" y="6357960"/>
            <a:ext cx="36432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5e0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11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www.europeanschoolnet.org -  www.eu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 7" descr="logo_eun.jpg"/>
          <p:cNvPicPr/>
          <p:nvPr/>
        </p:nvPicPr>
        <p:blipFill>
          <a:blip r:embed="rId3"/>
          <a:stretch/>
        </p:blipFill>
        <p:spPr>
          <a:xfrm>
            <a:off x="4786200" y="2071800"/>
            <a:ext cx="3714840" cy="1646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 6" descr="logo_europeanschoolnet.jpg"/>
          <p:cNvPicPr/>
          <p:nvPr/>
        </p:nvPicPr>
        <p:blipFill>
          <a:blip r:embed="rId3"/>
          <a:stretch/>
        </p:blipFill>
        <p:spPr>
          <a:xfrm>
            <a:off x="4103640" y="6264360"/>
            <a:ext cx="1246320" cy="571320"/>
          </a:xfrm>
          <a:prstGeom prst="rect">
            <a:avLst/>
          </a:prstGeom>
          <a:ln w="0">
            <a:noFill/>
          </a:ln>
        </p:spPr>
      </p:pic>
      <p:sp>
        <p:nvSpPr>
          <p:cNvPr id="82" name="Espace réservé du pied de page 4"/>
          <p:cNvSpPr/>
          <p:nvPr/>
        </p:nvSpPr>
        <p:spPr>
          <a:xfrm>
            <a:off x="5143680" y="6366960"/>
            <a:ext cx="314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177c1"/>
                </a:solidFill>
                <a:latin typeface="Arial"/>
                <a:ea typeface="Arial"/>
              </a:rPr>
              <a:t>www.europeanschoolnet.org - www.eun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4"/>
          </p:nvPr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Powerpoint template - Patricia Munoz 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5"/>
          </p:nvPr>
        </p:nvSpPr>
        <p:spPr>
          <a:xfrm>
            <a:off x="8215200" y="6356160"/>
            <a:ext cx="4716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A541-57AA-4136-B273-1F8BD4981F3E}" type="slidenum">
              <a:rPr b="1" lang="fr-FR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6"/>
          </p:nvPr>
        </p:nvSpPr>
        <p:spPr>
          <a:xfrm>
            <a:off x="7786440" y="71280"/>
            <a:ext cx="9903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28/0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Image 6" descr="logo_europeanschoolnet.jpg"/>
          <p:cNvPicPr/>
          <p:nvPr/>
        </p:nvPicPr>
        <p:blipFill>
          <a:blip r:embed="rId3"/>
          <a:stretch/>
        </p:blipFill>
        <p:spPr>
          <a:xfrm>
            <a:off x="4103640" y="6264360"/>
            <a:ext cx="1246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Espace réservé du pied de page 4"/>
          <p:cNvSpPr/>
          <p:nvPr/>
        </p:nvSpPr>
        <p:spPr>
          <a:xfrm>
            <a:off x="5143680" y="6366960"/>
            <a:ext cx="314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177c1"/>
                </a:solidFill>
                <a:latin typeface="Arial"/>
                <a:ea typeface="Arial"/>
              </a:rPr>
              <a:t>www.europeanschoolnet.org - www.eun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7786440" y="71280"/>
            <a:ext cx="9903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28/0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Powerpoint template - Patricia Munoz 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8215200" y="6356160"/>
            <a:ext cx="4716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B02B-8652-4870-93CA-B1E95DC38498}" type="slidenum">
              <a:rPr b="1" lang="fr-FR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3716280"/>
            <a:ext cx="803268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177c1"/>
                </a:solidFill>
                <a:latin typeface="Arial"/>
                <a:ea typeface="Arial"/>
              </a:rPr>
              <a:t>Digital Skills Working Group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856880" y="5373720"/>
            <a:ext cx="6643800" cy="9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177c1"/>
                </a:solidFill>
                <a:latin typeface="Arial"/>
                <a:ea typeface="Arial"/>
              </a:rPr>
              <a:t>Anja Balans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177c1"/>
                </a:solidFill>
                <a:latin typeface="Arial"/>
                <a:ea typeface="Arial"/>
              </a:rPr>
              <a:t>17/03/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168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Calibri"/>
                <a:ea typeface="Arial"/>
              </a:rPr>
              <a:t>Memb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e la date 6"/>
          <p:cNvSpPr/>
          <p:nvPr/>
        </p:nvSpPr>
        <p:spPr>
          <a:xfrm>
            <a:off x="7786800" y="71280"/>
            <a:ext cx="99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7"/>
          <p:cNvSpPr/>
          <p:nvPr/>
        </p:nvSpPr>
        <p:spPr>
          <a:xfrm>
            <a:off x="8215200" y="635652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BD07-BDEB-4BDF-B803-DFCDDA981DEC}" type="slidenum"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468360" y="1413000"/>
            <a:ext cx="822960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Belgium (Flanders), Czech Republic, </a:t>
            </a: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Finland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Italy, Lithuania, Norway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, Poland, Portugal, Spain, Switzerland, Turkey, U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April 2009: research findings on the status of digital technology use in teaching an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Teachers’ needs (training: initial, in servi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tudents’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ssessment and curricul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National / European cer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nvolvement of par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642600" y="285840"/>
            <a:ext cx="8218440" cy="92232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Requirements for the Development of Digital Compet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Review of national curricula (currently ongo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urvey of national pilots of new forms of assess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Case study research about teachers changed pract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642600" y="285840"/>
            <a:ext cx="8218440" cy="92232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Activ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GITAL COMPETENCE IS THE APPLICATION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CQUIRED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KNOWLEDGE, SKILLS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TTITUD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SING ICT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ORDER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RFORM A TASK ADEQUATELY IN A SPECIF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TEXT, SUCH AS EDUCATION, WORK,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RSONAL OR PROFESSIONAL DEVELOP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42600" y="285840"/>
            <a:ext cx="8218440" cy="92232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Review of National Curricu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642600" y="285840"/>
            <a:ext cx="8218440" cy="92232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Review of National Curricu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349360" y="2143080"/>
          <a:ext cx="4445280" cy="2714760"/>
        </p:xfrm>
        <a:graphic>
          <a:graphicData uri="http://schemas.openxmlformats.org/drawingml/2006/table">
            <a:tbl>
              <a:tblPr/>
              <a:tblGrid>
                <a:gridCol w="1416240"/>
                <a:gridCol w="1514520"/>
                <a:gridCol w="1514520"/>
              </a:tblGrid>
              <a:tr h="446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ach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03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icu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 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Knowledg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ll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ttitu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 C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Knowledg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ll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ttitu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317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ssmen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 B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Knowledg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ll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ttitu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 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Knowledg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ll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ttitu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340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gital Compet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Requirements from policy ma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What do they want to know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2232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DSWG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own Arrow 3"/>
          <p:cNvSpPr/>
          <p:nvPr/>
        </p:nvSpPr>
        <p:spPr>
          <a:xfrm>
            <a:off x="4140360" y="270828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571760" y="3929040"/>
            <a:ext cx="535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Arial"/>
              </a:rPr>
              <a:t>Type of evidence? Output forma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Meeting 21 April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First results of curricula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Specific national insights (e.g. knowledge building examples, assessment, initial teacher train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2232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N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4:46:21Z</dcterms:created>
  <dc:creator>Gilles</dc:creator>
  <dc:description/>
  <dc:language>en-US</dc:language>
  <cp:lastModifiedBy>anja</cp:lastModifiedBy>
  <dcterms:modified xsi:type="dcterms:W3CDTF">2010-03-17T11:26:33Z</dcterms:modified>
  <cp:revision>111</cp:revision>
  <dc:subject/>
  <dc:title>Title</dc:title>
</cp:coreProperties>
</file>